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12.jpeg" ContentType="image/jpeg"/>
  <Override PartName="/ppt/media/image6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B2DA-39BB-4DF2-BF24-5C47DB6E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C66C-6089-481E-BD54-46A1ECA7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A7CE-6855-4C91-A616-745AEF81C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3BEA-3CA1-496C-A9AB-5002FF009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E319A-68BC-484A-B708-20F58D410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927FF-84DC-4703-8939-338E1AD9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9DB6C-BE55-4ADF-8B47-72D0CA38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38EBE-4DA5-42B6-8807-5D0EE2A4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83D57-224B-491F-B4BA-2DB8DB71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EBECC-6DCC-400E-8B9D-5884A3BD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9FABA-EBDE-48B8-9F4B-10548799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305F-AB3E-4050-BA58-799E73DE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E902D-1EA3-4070-9E77-33225733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84D71-A6CD-48B5-B928-08076C52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51CEE-26E1-425D-8215-5633DD02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D94C0-3537-4B14-B263-2981A409C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83732-7689-4712-BB47-BB3C470AE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3EF1-C47E-478F-B5AF-90DE531C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38F8-E006-41CB-8E30-5A468953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A46F-D1B8-4716-905D-0146FC0D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DF14-9DDD-4B56-B486-5B7BFD37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3EE7-6BB6-4B0F-8F36-DAFA3403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6097-C0B6-4B22-8955-8B78F21E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DFFF-0115-4ECA-8B9A-40E76198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3179-20B3-4077-A6AE-455C3FBA95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7E2D-5304-4EE0-8044-9862E86F51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engui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Dona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352680" y="4419720"/>
            <a:ext cx="26672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at’s why penguins are cool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477120" y="3200400"/>
            <a:ext cx="2081160" cy="3121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57200" y="3809880"/>
            <a:ext cx="3902040" cy="2600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3352680" y="1371600"/>
            <a:ext cx="208116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Penguins live in Antarcrtca and the south pole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905120" y="1868400"/>
            <a:ext cx="5943600" cy="41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penguins don’t  live in ice or snow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41911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057400" y="2666880"/>
            <a:ext cx="5638680" cy="3435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848720" y="2590920"/>
            <a:ext cx="7966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y swim  very fast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swim about 15 miles per hou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752480" y="3124080"/>
            <a:ext cx="58676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turn with their feet and they walk ver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st. The smallest penguin is 15 inches  hig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penguins hop. One species is called donke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swim on their stomach. Another t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they are yellow, black, and whi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3808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17 species of penguin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638680" y="3962520"/>
            <a:ext cx="2362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y don’t fl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eat fish and squi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nguins are can be 3 fe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8320" y="914400"/>
            <a:ext cx="41907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y live up to15-20 years. If an egg gets too cold the chick inside will die . Emperor penguins keep their eggs warm in  a special pouch above their fe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886200" y="3736800"/>
            <a:ext cx="251460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o get down hills, penguins slide on there stomach. They use their flippers to pull them selves. 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962520" y="37339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enguins use their webbed feet to swim so fast under water. Penguins often jump out of the water to take a breath. Some times penguins swim along the water like ducks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19320" y="3581280"/>
            <a:ext cx="6858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2T18:26:49Z</dcterms:modified>
  <cp:revision>6</cp:revision>
  <dc:subject/>
  <dc:title>Animal Name</dc:title>
</cp:coreProperties>
</file>